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A37-46AB-4FF7-A39E-9A541902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234-6464-4678-9553-DA16426C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0CC-F43F-44B0-A655-9A980D86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F39-B701-4DF0-B2F3-70621BF2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4FCA-2BF2-409C-B3EA-F3B68DA8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A325-216E-4B27-A6A5-D5B8D828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772A-A580-46C9-A1ED-20BEF791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FDE7-7635-4812-AE63-8AA277A2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7745-9403-462D-8DF8-6A415AC6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0EFB-DA4C-4689-A51F-6CED21D3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F16B-FB67-4409-94B2-9A1E9FA0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EE7-AD9C-4264-AC77-C99F2775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F7D2-5F07-4A48-BA98-B7050223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ABF0-D223-4CDC-83B6-61EAF866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B94F-D574-416B-9888-F6750CE4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6D4A-88AC-41FE-A89B-08127C8A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39D8-0A9C-4329-B3AC-C5E255C2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2BF-23DC-4E3A-9E42-7779C934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7F1-1594-4448-AFA7-06DE4FEF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BA8-5105-41A0-910C-CA12C985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9C8-D1CD-423B-BE58-2E0DC0F0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B21-51B8-4744-882A-FB5468C4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065-9BA2-4F3F-9B2B-01A828BC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1CB-CEBA-4C76-9BFD-A8A093CC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AC0E-1816-4761-AB37-6BB813357A7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1CC2-C49F-468D-8654-7976D4558751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1835280" y="1916280"/>
            <a:ext cx="4692600" cy="23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Will Everyone F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411280" y="4724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Jake Asht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6"/>
          <p:cNvSpPr/>
          <p:nvPr/>
        </p:nvSpPr>
        <p:spPr>
          <a:xfrm>
            <a:off x="4140360" y="2637000"/>
            <a:ext cx="2197080" cy="2087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258920" y="2637000"/>
            <a:ext cx="2197080" cy="2087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he Olympic track dimens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340000" y="2637000"/>
            <a:ext cx="2952720" cy="20872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340000" y="249228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2484360" y="285264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276720" y="1844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2700360" y="314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70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How many people will fit in a meter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95640" y="1916280"/>
            <a:ext cx="86544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1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700360" y="2565360"/>
            <a:ext cx="3600360" cy="2808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547640" y="3789360"/>
            <a:ext cx="8654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1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2987640" y="4292640"/>
            <a:ext cx="1008000" cy="865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Oval 14"/>
          <p:cNvSpPr/>
          <p:nvPr/>
        </p:nvSpPr>
        <p:spPr>
          <a:xfrm>
            <a:off x="4932360" y="4292640"/>
            <a:ext cx="1008000" cy="865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Oval 15"/>
          <p:cNvSpPr/>
          <p:nvPr/>
        </p:nvSpPr>
        <p:spPr>
          <a:xfrm>
            <a:off x="4932360" y="2852640"/>
            <a:ext cx="1008000" cy="8654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Oval 16"/>
          <p:cNvSpPr/>
          <p:nvPr/>
        </p:nvSpPr>
        <p:spPr>
          <a:xfrm>
            <a:off x="3059280" y="2781360"/>
            <a:ext cx="1008000" cy="865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7093080" y="3645000"/>
            <a:ext cx="12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Verdana"/>
              </a:rPr>
              <a:t>=4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How many meters are t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140360" y="2637000"/>
            <a:ext cx="2197080" cy="2087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1258920" y="2637000"/>
            <a:ext cx="2197080" cy="2087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340000" y="2637000"/>
            <a:ext cx="2952720" cy="20872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2340000" y="249228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484360" y="285264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276720" y="1844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700360" y="314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70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659640" y="2349360"/>
            <a:ext cx="2016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0m*70m=6300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5m(2)*pi=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3848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6300m+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384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=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,148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How many people will fit i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6000" spc="-1" strike="noStrike">
                <a:solidFill>
                  <a:srgbClr val="ffffff"/>
                </a:solidFill>
                <a:latin typeface="Verdana"/>
              </a:rPr>
              <a:t>10,148m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²</a:t>
            </a:r>
            <a:r>
              <a:rPr b="0" lang="en-GB" sz="6000" spc="-1" strike="noStrike">
                <a:solidFill>
                  <a:srgbClr val="ffffff"/>
                </a:solidFill>
                <a:latin typeface="Verdana"/>
              </a:rPr>
              <a:t>*4=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GB" sz="6000" spc="-1" strike="noStrike">
                <a:solidFill>
                  <a:srgbClr val="ffffff"/>
                </a:solidFill>
                <a:latin typeface="Verdana"/>
              </a:rPr>
              <a:t>40,592 people will fit into an Olympic athletic track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36:43Z</dcterms:created>
  <dc:creator>jake ashton</dc:creator>
  <dc:description/>
  <dc:language>en-US</dc:language>
  <cp:lastModifiedBy> </cp:lastModifiedBy>
  <dcterms:modified xsi:type="dcterms:W3CDTF">2010-06-12T11:56:20Z</dcterms:modified>
  <cp:revision>2</cp:revision>
  <dc:subject/>
  <dc:title>Slide 1</dc:title>
</cp:coreProperties>
</file>